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608F-EED1-41FB-B3A1-E82E3DF4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35D9-3501-4C04-A341-059BDAA7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494C6-7942-4313-9DBD-C3EDF70C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A0046-1C30-4219-9CC3-31C641EC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85F70-680E-40B0-B58F-0B190BBA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43C04-2D5F-466C-BC43-7C0A6413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95E13-9A9D-40B9-88C1-4B973A8E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7858E-804E-408E-9D9A-68C7C1A5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67A53-11B4-45BB-B873-3373A354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AD3F4-1579-43C8-8C76-6F04F729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E4528-FBDB-48D8-A6CD-B51530E2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1034D-9C94-44D3-8D2B-19E77E92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B644-F9BE-4D98-8BF6-22314FF6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166D3-1E00-40F7-9280-0C5DB932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B185D-82D2-4AFE-98EF-242EE550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146A9-40D9-419C-953C-F5274A3D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FCC6E-0C84-4A70-9D19-4B5C6A79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54F0F-BBC1-4FB9-B1D0-624DE3F9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7A75B-EE84-40FE-B745-1FD7424B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82384-3C29-46E0-A09E-BD5C7223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ED92C-EAC5-4407-B404-4D64D400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5CA5F-7872-48F9-BFA6-5B35B995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92FD4-5F73-412F-9964-F095289F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0036-7CC1-4D63-9A2C-E280373D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3006B-F6A8-4C0A-BCCD-27211257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5CCB3-7506-4D99-A422-EDC55C11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74A96-E20F-4935-B330-55449E94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EC5E3-24FA-485D-B730-15070BF0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E2CD5-731D-4B86-894A-A0F2E655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5CAAB-0E1A-4C0B-A3C3-0691E1B6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37B61-A246-4E35-AD1A-BD959169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C1B89-E8BD-488F-8294-A4FFB4B2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C8FE8-0798-4707-B559-96C0A9D3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473FD-3BC8-44E0-BF07-093FB7CC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B240-8EA5-466D-B8B1-A59268ED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5B3C0-284B-4550-93BE-F74E97A2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AEA86-4555-4429-875C-DA108470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573EA-2C81-49D4-B1DE-2B972792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CBFCC-B1E8-4E87-B617-D922FEE9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2DC61-8D2F-42A0-8F9C-AD95D7AA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B49DE-D9D9-4D8D-87D3-DD4AD03F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0E537-416C-4948-9C1B-EEDBE7C9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2657D-25B7-4F85-BFC3-9DE07D6B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E81FE-75D1-47C0-A89E-C0D3072A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18740-1B2A-4473-95C0-4F2E0782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0C3F-63DB-4190-8134-A724DD29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F8D2B-D492-492D-88B4-B2D1F465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ABA49-6B5F-40DF-85A7-8A0B7853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5B61F-18DE-4F80-A7FC-2A97D5F8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7C021-9FE2-4646-B66A-78B41813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213DE-2509-4463-AB78-39347922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C2757D-19D0-4B4E-96AF-D9A203EE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70D156-F694-413B-8942-E6E49218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971CF0-D57B-48B0-86EC-29167D98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01706B-2C9F-4363-A95D-3AE26FAE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A72AB7-DE6F-4744-9CCD-ED4128D8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80AD-4F30-47BD-91D4-C1C885A9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D68AD4-660A-4CB1-9EEC-322D16D7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A8CA55-FDB6-448C-830B-42690E97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76C562-A4B8-4A22-B8F6-D82F75BD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247649-5310-455D-AE38-FCADBF26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DD4653-8568-45F8-90E4-96F2DE3B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693F35-F64E-4ADF-BA17-531CC565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E80FF-B05D-4B73-8A01-540C4620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590DE8-7451-46D1-8B6E-0D5B8DD0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951271-8CB7-4143-BD43-969B3474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D4DADC-288A-40FA-930A-7D3EE2D5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D282-D4F3-4802-AD25-872F4DED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EF3BE2-157D-43AB-83CA-42C2A2CE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C444D1-B0C6-40BF-9AD5-F57FEEB1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5F957F-8320-4309-9C0F-8BA61B63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72D86B-F859-4D25-87F0-EE57DBA3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5C77E8-7779-4AAC-8D13-62F0530C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06608C-E3EB-46D6-A832-409E7B14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053B69-216F-4CB1-BEB1-C44935CE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F8AA47-47CB-42E8-9A50-118C27FE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57328F-B69F-4629-B665-C5F4AEA2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D80A9C-1F91-40E8-8BBD-D69CA777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86C9-68AB-4902-A8F5-BE06E2DD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EBA87E-1FD3-4B6B-9148-B7AA67CE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9EF375-EFCC-4E0C-A2D3-07394D52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6F73AC-3354-4754-9979-855EE51C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384064-A455-457B-9A01-7AC061A2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B277A2-36ED-428C-BC05-8E9AF56F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EA55C1-0DCB-45B1-8B28-136D2C40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85CDD3-22ED-401C-8751-9D3BB49F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232F56-8232-40F4-B771-7DBFFBE3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F876A1-576A-4527-AF98-004F267F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0083B4-FF0E-43FE-B52B-048911E2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ACA5-4CA9-4179-92B1-FB14C214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CB5DD5-85FD-4186-824B-6302EA01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B33105-3062-4CF5-BF4C-6AC019157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DFD4CC-A7C7-4F3A-BE82-3B94730F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75A7D9-DB6B-4656-AB02-55E14262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9CF65A-4139-41C3-977E-F52BF0DC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5BD16C-70D4-4D8C-ABE1-7CCAAB48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B25141-A2BB-4394-97DC-DB66BB65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9FFDE6-C069-420C-B948-88D3D537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079057-3C37-4A46-86EE-4A727D49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62FB44-E455-404A-A7F0-AAF13BB8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4F94-259E-48F5-9098-90EF7263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4327FF-60E0-485F-82A1-27B96561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7CC5D5-CBCB-4C32-B515-C9D21595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408815-F706-465A-8E5A-68B1923B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85EC3C-2143-4437-9468-6A15AF9B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C92B09-3F1A-4945-BAE0-8A6B83AC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DE73CA-B07A-4506-8D53-3D77218A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162145-F7FB-4C66-B944-A27482AB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181691-4868-4506-8B42-6EAA428F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0813E6-13F1-4A83-963D-77C4D099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8C3325-9379-4D1C-A4A2-DD479818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FD53-4EC7-46FF-910A-3C250966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AA71-3D31-48E5-B173-0501BD2B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C1C6EA-5B57-410F-BAD4-FE93FE77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216FC8-305D-4CF9-A7D7-3E4CFD50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F2E58B-8BA9-4A80-928B-901F5604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8185B5-8642-4C76-A801-6A4D2DCA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6FDF62-BE2B-4DDF-B6F2-30D8063B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2A7A86-FC44-4C90-B36B-042CAA5C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E06C05-0D7F-4C02-B5CD-5CDC2A27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8BEDFB-5D91-4BE8-B5C6-91A4DC7A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6C7BAB-1E1F-4A40-BFFC-5DC230DD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75F387-EF64-451D-B7FB-F3C1394E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B6D5-DF7A-41D1-8932-87F904A3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941992-F7F3-4B2D-8E33-60CEDE29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87866D-E544-477F-B0BC-3BE9F9B5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C02F3B-9A36-4DA3-BA0F-BF5EF81A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0A1620-55FE-480E-A1E6-F926AC82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5E99A0-4254-492E-9F08-5ECB4D76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5638DD-ED42-4173-86CD-6AC5AD2B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E6D55B-1414-4CE0-92FE-1982C402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A5FAC5-4E60-4125-A318-82238FBC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F32C49-5347-4E82-BA06-857555A1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571A2C-68DC-467A-B96B-A6B8420A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47D7-AD44-4148-BF64-60E8C23E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6710E1-DED6-4858-AF02-46009582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EC9F8F-6B34-4E50-8F5A-8F38AA59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94DF69-3B24-4B6C-92FF-6A1ADD9A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803BFB-BAF5-4416-8EE7-594412F1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DA7398-DA16-4D02-B9F9-006D6F3D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B4A739-B7D6-4FE1-976C-09B6E6C1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873B5A-828D-4F8F-875B-F219DFBF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0DB04F-2A3B-49C0-B0F5-8F02D2B8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4689EA-88C8-4BBB-AC7B-1815CE11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FD6E50-8901-4B02-AD08-FDB5FAD9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1112-7A6A-4C51-8EF2-98DF4A50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2B54B7-470A-46A5-92C6-C78BA3B1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1FD2EB-EF02-4EEF-A827-0E9A2E62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ABCBF3-2A3E-4667-8CAF-F8806DAD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0E285F-AE49-4F01-85F6-D38E529F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E086BF-6060-4D91-AB8B-98000F5B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C3E37A-B445-4706-9892-A2B02C03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5C8002-F9A1-4590-8C84-7A7E5113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55849A-A722-4AEF-83CA-763140D7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932BCC-6D9C-4AAC-B370-EFE25833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5B1516-A301-49A7-AC08-1D3465F6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4A7F-44C5-4759-A965-9FDBF1F5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AD2B6C-AFB3-42B2-9B7D-B6ACE733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F050ED-C5A8-46DA-AFE8-B1B9F186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1598C6-D7B3-4439-BF23-D645339D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7818AE-947E-4420-81B2-41BB442B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95B8B4-1276-4C2E-A7EC-465C3665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F390AB-FC9E-4B56-BF4A-51FC1414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57D766-0BB5-4D9C-A147-E34FD060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44E184-F4E4-41D0-8485-4123CE5D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EBC407-1C28-4DF4-89DC-532A4899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E6F1D1-E3F3-4FF5-BD55-67C40B05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9671F-B5CC-45D5-A7D4-D95F0C0D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9EA7E4-D45D-49E4-9DD3-9C5777C7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B693D5-EAC4-4CE6-9629-9767C574F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A209C0-737B-4060-B801-1A834481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495D1-0DFC-46BB-B036-992EE4CC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236E5-C8B5-41B9-9EA9-6523D275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A86BE-305E-4F45-9E10-FC6464DD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6B845-CDBC-4E9E-908D-B0DB7E79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DDB0-F182-4750-9470-69E3DA5F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725E8-05EC-4637-8FA3-848577B7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54176-0F84-40F8-A7E2-5B007DDE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49303-B5E1-4248-A525-C7D3A39F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4DBAE-6FA2-4DA9-B44A-609E8D09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B1BCD-BA21-4E32-9AB0-CCD8AAD1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91C32-5716-449F-8D3B-0E6C91C7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B81E5-92C6-44E5-8444-7E49513E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F3E65-88CA-48AC-830B-B0BF8E99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60194-57B2-4FD7-865F-CBF46C78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D2099-8A26-468E-9336-B9A9E1D3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3C35-5E16-4B4B-87CF-4E5F8EE3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9BDA1-697F-4475-963C-6DDA778C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C2BA1-D440-42DF-9DE2-9CD2C03D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58B76-6EE5-46D3-A071-F0B59F08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66E5B-35B6-4BF3-8C94-246ED99F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A5188-5318-45F3-A18A-637DAAFB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7DF67-EE8E-4E58-ADB1-551B7D12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B422F-D69B-4642-968F-ECDF39AB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9A5F5-76A5-4B2C-A1E0-A01E99E0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91337-78AA-421C-9FD0-5208DE89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30938-1D2A-410F-912E-C413F7A1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B73B-8AAB-4E2B-886D-734839F2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49E08-36B4-4738-BC2D-A91EDA77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88252-0397-4FBB-B95A-0AB9B2E1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F9263-8E70-475E-840F-2DE177F4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4666C-9533-4584-8810-3E1EB12C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6702E-E704-4024-82A3-3139DDD4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EF774-03B6-474E-8C77-C98440DD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6DACF-DCE8-4716-B294-ADE7A0FB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00B74-CE1F-46B5-9F58-A34B3F6F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6C4AF-552C-4F19-A861-50BA75FB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62137-AA6F-4229-AB44-0E3DEA91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5206-AB2F-43CE-8D17-A4228D77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CB08B-9F4F-47FF-9B54-D132EBD6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AADF7-D91F-496F-853D-8D8B212FD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65E9B-BE67-4149-8398-06CC5DE4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EA36C-2344-4139-BA41-1D149A3A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AE1F5-4A5C-4132-B7EC-F2EFB3B3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58148-F819-4B9C-AD69-754D24E7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CDEEB-22EE-420A-A4AE-8047793B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00D9B-6958-4A96-A852-51DE88D7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A6F78-7671-4875-92AA-98E5E6F5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A93C0-5CCD-4DA9-96CD-83AF2C31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6B48-FEBF-4C86-B654-E805D476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608FA-E1ED-4233-A66E-EF13F879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14B1D-106D-42FC-94A8-C1C1ECDE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2E1E2-D3D7-442E-AA8B-68859EBE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1F92A-2834-4F0B-92DC-35804E19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5FC2A-8AB0-44F1-8D38-B7692562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50361-44A5-400B-AF86-46BC50BB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588EF-C475-460A-BBE2-FC7CD744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01F89-85F4-4AF8-9B63-F230D697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DD655-CB28-43A9-B0C6-4B84A999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024C2-A253-4A03-B894-CEF44778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0C1A-92BE-4528-ABDC-E8F1595C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7013B-D01F-4736-A2DE-180E8C24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5567E-9BEB-4B70-8D57-E9F3EBBB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59FB4-B133-45DA-8A28-F20B55A5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495CD-9B12-42C7-AD3F-5CFEAAE5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BD27C-809F-4DCC-A447-CC318EEF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181D9-27DD-4447-8905-E6203305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D41FE-B8CA-43EC-9F41-10F6DFDF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85E17-13A1-4F6B-824E-020A6951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9BEB4-2DDF-41FC-8B70-9CD86D19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FE375-F978-4387-B171-B1D5D264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A240-77D1-401F-B6AA-0035C92F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A6CD9-9507-4729-8EC2-1CCBE654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FBA8C-DEBD-4385-AE7A-B4B71440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83802-74EA-4DF5-B69E-4DD8B375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5EDB7-55D7-4F22-A4C0-4F1B6A04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0E273-E156-4FA3-91DD-BDB89ADB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9B777-A375-4C75-993C-62111BA5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D6A48-014A-42AE-9788-2744CF01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BE66E-5848-417F-A717-EBD4FD5D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A0FB7-E1F1-46CB-9D89-89AF3D3E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424F5-A716-4FF3-B061-1FAB17DD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A701-1B75-4DF5-8EDF-C5106705C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8D46-FE98-4334-96D0-60E5111777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A44B-E7C7-45D1-B552-0EC5EB9DC1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2544-5519-4997-9247-826E975792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B654-23BA-4F07-B6B9-BD7B967D17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06EA-C25E-452F-8288-BFE04A8896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59AB-B855-45F8-9A91-C2B41C9A86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BA16-3AC3-4992-9653-9EA7FBA11A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22BD-6007-4E45-9DC1-AC8FDE15CE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FF1C-B63B-4BE4-AE0B-AA031A90CA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9217-7E9F-4333-BBE2-3B5238E6F2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9655-8783-4129-A1F0-BF36955C2D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79C1-E5F4-4D65-ACB2-8AC32EDA62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1C53-EBDF-4CB9-8C1A-B75B48B5B5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990B-6DF0-44EE-8840-C1B820E8AE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AE4B-3BE7-4CC2-9B5A-81A03C9BA1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FA0D-9846-43A3-A349-C5ED0E70B0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CDFA-9D1B-4980-88D0-B639BC3D18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B9E8-95F0-40C0-B361-EB5BC12100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9803-F415-461C-A608-C593BAD419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0D72-AE49-4ECA-B59E-9E2657D070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3A4A-8288-4954-9351-A7DBF0BF55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CBFD-BA55-4BEC-8F86-02D0ADE0F6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DA02-EF54-419F-9A5B-9BC0291185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F962-992D-43B3-8BA8-F655F294DF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B9EB-640C-4B2D-9A8C-B0467D73D5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4B8B-3BF1-4335-8A6A-FACC379162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1D99-21F7-40DD-9F43-EC5546659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28F3-1DC8-4EEA-8CF0-5684EC7E92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AE6A-7EAE-46C9-BFE4-48AB13D923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C5E7-4AA4-48B7-B157-E28BEFA6F2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D161-7A25-4980-A790-8954A5A803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EE9D-5ACA-467E-B0D8-AC797D112D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2437-8DDB-435A-B437-BCA9BCCAD2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E96D-86A9-476C-A85E-39B4B27DE1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ADD7-E505-44A5-8637-6C28BEFC8E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99C3-8861-49CC-89E1-47D80CE386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CFD3-FCAE-44A8-AEBB-7F578BC832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8F14-6E02-4958-9CD4-8FBF192518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A9B9-3D7C-467D-98DC-A875933B0A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1066680" y="3033720"/>
            <a:ext cx="7010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490680" y="952560"/>
            <a:ext cx="8162640" cy="495288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1000080" y="257184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466560" y="1509840"/>
            <a:ext cx="8210880" cy="383832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1000080" y="157176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928800" y="342900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433440" y="1986120"/>
            <a:ext cx="8277120" cy="28857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2" descr=""/>
          <p:cNvPicPr/>
          <p:nvPr/>
        </p:nvPicPr>
        <p:blipFill>
          <a:blip r:embed="rId2"/>
          <a:stretch/>
        </p:blipFill>
        <p:spPr>
          <a:xfrm>
            <a:off x="1928880" y="5072040"/>
            <a:ext cx="5857920" cy="304920"/>
          </a:xfrm>
          <a:prstGeom prst="rect">
            <a:avLst/>
          </a:prstGeom>
          <a:ln w="0">
            <a:noFill/>
          </a:ln>
        </p:spPr>
      </p:pic>
      <p:sp>
        <p:nvSpPr>
          <p:cNvPr id="1030" name="矩形 3"/>
          <p:cNvSpPr/>
          <p:nvPr/>
        </p:nvSpPr>
        <p:spPr>
          <a:xfrm>
            <a:off x="1000080" y="207180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4"/>
          <p:cNvSpPr/>
          <p:nvPr/>
        </p:nvSpPr>
        <p:spPr>
          <a:xfrm>
            <a:off x="928800" y="400068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571680" y="928800"/>
            <a:ext cx="8115120" cy="5362560"/>
          </a:xfrm>
          <a:prstGeom prst="rect">
            <a:avLst/>
          </a:prstGeom>
          <a:ln w="0">
            <a:noFill/>
          </a:ln>
        </p:spPr>
      </p:pic>
      <p:sp>
        <p:nvSpPr>
          <p:cNvPr id="1033" name="矩形 2"/>
          <p:cNvSpPr/>
          <p:nvPr/>
        </p:nvSpPr>
        <p:spPr>
          <a:xfrm>
            <a:off x="2103480" y="1371600"/>
            <a:ext cx="1643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3"/>
          <p:cNvSpPr/>
          <p:nvPr/>
        </p:nvSpPr>
        <p:spPr>
          <a:xfrm>
            <a:off x="5526000" y="2397240"/>
            <a:ext cx="128592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4"/>
          <p:cNvSpPr/>
          <p:nvPr/>
        </p:nvSpPr>
        <p:spPr>
          <a:xfrm>
            <a:off x="2689200" y="3382920"/>
            <a:ext cx="10000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5"/>
          <p:cNvSpPr/>
          <p:nvPr/>
        </p:nvSpPr>
        <p:spPr>
          <a:xfrm>
            <a:off x="5065560" y="4357800"/>
            <a:ext cx="1643040" cy="374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6"/>
          <p:cNvSpPr/>
          <p:nvPr/>
        </p:nvSpPr>
        <p:spPr>
          <a:xfrm>
            <a:off x="2857680" y="5375160"/>
            <a:ext cx="20001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1" descr=""/>
          <p:cNvPicPr/>
          <p:nvPr/>
        </p:nvPicPr>
        <p:blipFill>
          <a:blip r:embed="rId1"/>
          <a:stretch/>
        </p:blipFill>
        <p:spPr>
          <a:xfrm>
            <a:off x="447840" y="966960"/>
            <a:ext cx="8248320" cy="4924080"/>
          </a:xfrm>
          <a:prstGeom prst="rect">
            <a:avLst/>
          </a:prstGeom>
          <a:ln w="0">
            <a:noFill/>
          </a:ln>
        </p:spPr>
      </p:pic>
      <p:sp>
        <p:nvSpPr>
          <p:cNvPr id="1039" name="矩形 2"/>
          <p:cNvSpPr/>
          <p:nvPr/>
        </p:nvSpPr>
        <p:spPr>
          <a:xfrm>
            <a:off x="5607000" y="1522440"/>
            <a:ext cx="1643040" cy="385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3"/>
          <p:cNvSpPr/>
          <p:nvPr/>
        </p:nvSpPr>
        <p:spPr>
          <a:xfrm>
            <a:off x="5078520" y="2543040"/>
            <a:ext cx="1643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4"/>
          <p:cNvSpPr/>
          <p:nvPr/>
        </p:nvSpPr>
        <p:spPr>
          <a:xfrm>
            <a:off x="5072040" y="3500280"/>
            <a:ext cx="20001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5"/>
          <p:cNvSpPr/>
          <p:nvPr/>
        </p:nvSpPr>
        <p:spPr>
          <a:xfrm>
            <a:off x="7358040" y="4000680"/>
            <a:ext cx="1285920" cy="388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6"/>
          <p:cNvSpPr/>
          <p:nvPr/>
        </p:nvSpPr>
        <p:spPr>
          <a:xfrm>
            <a:off x="5572080" y="5000760"/>
            <a:ext cx="1643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1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200800" cy="6143760"/>
          </a:xfrm>
          <a:prstGeom prst="rect">
            <a:avLst/>
          </a:prstGeom>
          <a:ln w="0">
            <a:noFill/>
          </a:ln>
        </p:spPr>
      </p:pic>
      <p:sp>
        <p:nvSpPr>
          <p:cNvPr id="1045" name="矩形 2"/>
          <p:cNvSpPr/>
          <p:nvPr/>
        </p:nvSpPr>
        <p:spPr>
          <a:xfrm>
            <a:off x="1714680" y="5000760"/>
            <a:ext cx="468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3"/>
          <p:cNvSpPr/>
          <p:nvPr/>
        </p:nvSpPr>
        <p:spPr>
          <a:xfrm>
            <a:off x="1165320" y="5454720"/>
            <a:ext cx="1828800" cy="385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4"/>
          <p:cNvSpPr/>
          <p:nvPr/>
        </p:nvSpPr>
        <p:spPr>
          <a:xfrm>
            <a:off x="5289480" y="5946840"/>
            <a:ext cx="928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476280" y="1028880"/>
            <a:ext cx="8191440" cy="4800600"/>
          </a:xfrm>
          <a:prstGeom prst="rect">
            <a:avLst/>
          </a:prstGeom>
          <a:ln w="0">
            <a:noFill/>
          </a:ln>
        </p:spPr>
      </p:pic>
      <p:sp>
        <p:nvSpPr>
          <p:cNvPr id="1049" name="矩形 2"/>
          <p:cNvSpPr/>
          <p:nvPr/>
        </p:nvSpPr>
        <p:spPr>
          <a:xfrm>
            <a:off x="1214280" y="1071720"/>
            <a:ext cx="235764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3"/>
          <p:cNvSpPr/>
          <p:nvPr/>
        </p:nvSpPr>
        <p:spPr>
          <a:xfrm>
            <a:off x="5308560" y="1606680"/>
            <a:ext cx="13572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4"/>
          <p:cNvSpPr/>
          <p:nvPr/>
        </p:nvSpPr>
        <p:spPr>
          <a:xfrm>
            <a:off x="7112160" y="2060640"/>
            <a:ext cx="1643040" cy="396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5"/>
          <p:cNvSpPr/>
          <p:nvPr/>
        </p:nvSpPr>
        <p:spPr>
          <a:xfrm>
            <a:off x="3857760" y="2571840"/>
            <a:ext cx="1500120" cy="388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6"/>
          <p:cNvSpPr/>
          <p:nvPr/>
        </p:nvSpPr>
        <p:spPr>
          <a:xfrm>
            <a:off x="4692600" y="3103560"/>
            <a:ext cx="13572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7"/>
          <p:cNvSpPr/>
          <p:nvPr/>
        </p:nvSpPr>
        <p:spPr>
          <a:xfrm>
            <a:off x="5286240" y="4071960"/>
            <a:ext cx="928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8"/>
          <p:cNvSpPr/>
          <p:nvPr/>
        </p:nvSpPr>
        <p:spPr>
          <a:xfrm>
            <a:off x="1214280" y="5035680"/>
            <a:ext cx="10004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20:0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